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533-B94A-4D29-8511-A398B8D3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A97-9B4F-40B2-9775-ABD5878D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B3F-7E2F-466C-938D-A5E18371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969-BEA5-47DE-A56F-5A6EFEB5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A60A-6EA1-404C-B1BD-55FBBA56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AF12-52AC-438E-B806-6F3A92FA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51F3-33CC-4EBB-BC60-02A20593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4C23-369B-4042-8059-1752EB14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06C0-AC51-4F1D-BA1B-6F5D6345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2F97-9F0E-4FA3-A8D1-99445DBC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C102-4987-407E-A990-C95E4BCC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045-B067-47D3-8AE4-971131A3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A6A7-DD50-45DD-98CB-B00BAA80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A69B-BECE-4574-A6A4-ED15E93E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2036-8B18-4C10-B002-984BC1AD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D53B-CA7D-460D-8FAB-F12C6162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1BAD-26B0-4503-9CDC-1D68690D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82E-F293-4B76-831B-808C9BE5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FB8-6DC2-4543-8F13-B6859FAF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0ED-A08A-4CCC-93B7-AB8197C9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DAC-2833-494D-8DCE-63A6E7BE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805-136C-41F4-84D5-622871BE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8DA-7F06-41C6-9110-9D35C31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408-63B5-4B20-9C3C-F8A66055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653C-1216-403F-8EFE-029E1A1915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D17B-6118-47A9-A0C6-6706EB58F1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99"/>
                </a:solidFill>
                <a:latin typeface="Garamond"/>
              </a:rPr>
              <a:t>Behavior Case Study</a:t>
            </a:r>
            <a:endParaRPr b="0" lang="en-US" sz="7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Verdana"/>
              </a:rPr>
              <a:t>Going through the Problem Solving Model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March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LEVEL 3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 or more frequent sessions with counse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social skill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oval to another set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T BE DOCUMEN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s to be in B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t be appropriate for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Level 2 interventions can be altered in frequency or intensity to better reflect the higher supports necessary at Level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ll Behavior Serves a Function…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Main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ape/Avo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Stimul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 may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OO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 same, but serv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FFERENT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rives the interv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unction is determined through data col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Questions??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MC900423171[1]"/>
          <p:cNvPicPr/>
          <p:nvPr/>
        </p:nvPicPr>
        <p:blipFill>
          <a:blip r:embed="rId1"/>
          <a:stretch/>
        </p:blipFill>
        <p:spPr>
          <a:xfrm>
            <a:off x="7162920" y="4343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Today’s Session…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use a case study approach to follow a case through the different levels of intervention within NHCS’ PSM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will read a case, practice using PSM forms to document behavior, and problem solve different interventions of varying inten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member…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is a significant learned component in most forms of challenging behavior and what has been learned may be “unlearned”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llenging behavior almost always means somet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behavior helps us change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Challenging behavior and autism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Making Sense-making progress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ilip Whitak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Garamond"/>
              </a:rPr>
              <a:t>What makes it Level 1, 2 or 3 ???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82520"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olves the practice of teaching and reinforcing students for displaying school-wide expectations and is delivered to every student in every set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82520"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80% of students, this is enough for their succes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82520"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ventions that occur ON TOP of Level 1 interventions, involves interventions that are easy to administer and implement with small groups of students and require limited time and staff involve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82520"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ut 15% of students will need this level of intervention to be successfu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82520"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 ON TOP of Level 1 AND Level 2 interventions, involves interventions that are developed by a team and include the support of staff outside the general education set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520" indent="-18252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ACTIVITY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view Completed Level 1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LEVEL 1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ool-Wide PB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Ste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me/School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/Teacher Confer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room Behavior Management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Differe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ximit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ve Reinforc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ra Opportun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ACTIVITY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lete Level 2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LEVEL 2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 Monit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lk Tic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 Post-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Contr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nto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ol Down Cor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group / short term work with counse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ual Reminders/C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Conting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-In/Focus on behavior during social times to capitalize on “teachable moment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ACTIVITY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lete Level 3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6:42:32Z</dcterms:created>
  <dc:creator>swadmin</dc:creator>
  <dc:description/>
  <dc:language>en-US</dc:language>
  <cp:lastModifiedBy>Owner</cp:lastModifiedBy>
  <dcterms:modified xsi:type="dcterms:W3CDTF">2011-02-28T01:21:23Z</dcterms:modified>
  <cp:revision>20</cp:revision>
  <dc:subject/>
  <dc:title>BEHAVIOR BASICS FBA/BIP &amp; INTERVENTIONS</dc:title>
</cp:coreProperties>
</file>